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047-3436-4D53-A2B5-FAE0DC69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337-5C06-4ABB-AF28-56C9A2A6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0B9-5FC2-4661-8817-C886D3DE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AB8-C9E4-4575-8CAD-CB778702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BE1-EEA6-4CC2-A90A-7A7BB89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1DF-236D-4656-B522-0F7AD490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821-ECDC-4689-B2F6-E8A80B8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433-87F2-46F6-A899-B8956C3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745-D0DB-4C8E-841A-7FFBDD0E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C59-E70B-46FC-A08D-3D216B0E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D80-4DDE-4893-807B-5C1A32C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080-DBF6-4D92-A3C3-28A7BD0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860-94F6-4347-AD7A-7E471FA83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857760" y="60721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оставлена: учителем биологии Колесовой  Е.В. МБОУ СОШ № 6 г. Кольчуг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8:10:21Z</dcterms:created>
  <dc:creator>Елена</dc:creator>
  <dc:description/>
  <dc:language>en-US</dc:language>
  <cp:lastModifiedBy>USER_PC</cp:lastModifiedBy>
  <dcterms:modified xsi:type="dcterms:W3CDTF">2014-02-11T17:34:23Z</dcterms:modified>
  <cp:revision>4</cp:revision>
  <dc:subject/>
  <dc:title>Слайд 1</dc:title>
</cp:coreProperties>
</file>